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7CA-7B74-4D3E-B8AE-7E0FE478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B48-7EE4-4F04-9831-E5DD0F00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379-6003-4E90-97FB-26AC857E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951-CFB6-4496-AB11-B371841C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7E11-56A4-4E96-B809-AF5473AA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30D2-D63A-4382-9FC0-9B53F27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3C11-93BA-4ECE-A705-B5C349E0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3BF0-0549-4F9B-9DF0-AA9418A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3203-034B-4F13-A45A-145AA003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C864-128C-416A-94CF-6E5324FA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809E-0DD1-4C19-B608-DA9DDC7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1E8-8621-434A-9E59-F89B2E2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D518-64E6-4B4F-A17B-FB1F17A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A885-14E9-45A0-81CA-2840BEFC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CEBA-4262-4C87-A3B1-05300F0B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1E72-D544-472B-97F0-D208AA8F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9EF2-4FF5-416D-952B-9BAD45E6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757-7908-4D4E-B914-7BDE9963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853-2492-4F17-BF2D-4570E85B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477-C9F3-4AC9-82BC-9DA1C533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CA8-24F6-4B1B-9425-9A548B85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076-6FFC-4A1F-81B3-568792E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CC1-CB15-4F45-B062-601CDAF7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70E-6E40-4FFB-8627-C2EC889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1F77-E9CB-4A07-9939-CD3BB3BFE90A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8775-EE54-4EDE-B3D2-013698E0380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B657-8C1C-4EFB-AA84-0AC0E589E7C4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08F7-6BFC-4FF1-9F58-270C3E547B9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Verdana"/>
              </a:rPr>
              <a:t>I love stamp collec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27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2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FEED-2DC4-4B3F-B7CF-310C88A734D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3A6D80-DA2F-42A5-8B87-6C52B959D03F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9280" y="-360"/>
            <a:ext cx="7414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Bookman Old Style"/>
              </a:rPr>
              <a:t>What is stamp collecting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t is where you collect used or new stam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You can collect them from all over  the wor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t can be placed in cool bind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270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2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956-5B3E-4A04-BAB4-ED5B0187A8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A10CE-1BBC-43F0-9F36-94BB9A1E1ABC}" type="datetime1">
              <a:rPr lang="en-US"/>
              <a:t>07/31/26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Bookman Old Style"/>
              </a:rPr>
              <a:t>Value of stamp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ome stamps are rare and are worth a lot of money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ome mints may have only printed a limited quantity of the stamp which make sit valua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ld stamps in good condition are worth mone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27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2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583-16E9-4E56-B1CC-CB4B2250B2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5C876-BF3E-467F-A56B-D60AB01FAD77}" type="datetime1">
              <a:rPr lang="en-US"/>
              <a:t>07/31/26</a:t>
            </a:fld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Bookman Old Style"/>
              </a:rPr>
              <a:t>Stamps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6960" y="1844640"/>
            <a:ext cx="755676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ccff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amp collecting is popula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00ccff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amp collecting is an interesting hobb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00ccff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You can make money when you collect stam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27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2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B37-C196-4D79-8130-97F1799B95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6567F-52CC-48EC-AF47-73019243B8C7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6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Bookman Old Style"/>
              </a:rPr>
              <a:t>Summar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amp collecting is fun, exciting and profita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amps can be rare or comm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You can make new friends and join club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27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2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719-5D15-4D77-B707-C3C243A132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CCCB0-AFF3-4B76-9823-4743FF909716}" type="datetime1">
              <a:rPr lang="en-US"/>
              <a:t>07/31/26</a:t>
            </a:fld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Bookman Old Style"/>
              </a:rPr>
              <a:t>Where to Get </a:t>
            </a:r>
            <a:br>
              <a:rPr sz="3400"/>
            </a:br>
            <a:r>
              <a:rPr b="0" lang="en-US" sz="3400" spc="-1" strike="noStrike">
                <a:solidFill>
                  <a:srgbClr val="ffcc00"/>
                </a:solidFill>
                <a:latin typeface="Bookman Old Style"/>
              </a:rPr>
              <a:t>More Information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amp websit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pecialty stor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27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2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594-2816-441C-B295-E4EAF2D987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99AEA-D870-472F-BF50-9485CBC0CF39}" type="datetime1">
              <a:rPr lang="en-US"/>
              <a:t>07/31/26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ina</cp:lastModifiedBy>
  <dcterms:modified xsi:type="dcterms:W3CDTF">2006-11-14T02:31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